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C39-2A02-45D1-8E9E-4CC57F16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0C0-D3ED-4A51-9575-42E61AED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35F-EC8D-4F87-BEB3-EEF17B96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822-E05C-48D4-847C-B818C18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FD5-68FD-4BA5-9422-E26A24DC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5AB-6BB6-495C-BAF7-FF17B2BB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2B5-2197-481B-BCC7-10349EB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736-82C4-4F53-994C-8EECD12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E7B-EC1E-4222-A654-D3DB6AF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966-5D12-4282-AE6C-9AB014E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D4B-EA63-41F8-9F7D-FB5FC8C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211-1B10-4BBB-BB25-CAAE4DA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AD4-CE66-4A3B-AB60-CFE6675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5C1-00F1-4D01-B069-C01F511D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6A8-DA95-42C6-B575-36A3515468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6694-E808-4C5C-9504-5DB9FED6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BC4-D5DB-449F-BEAF-8B1D85B0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1"/>
          <p:cNvSpPr/>
          <p:nvPr/>
        </p:nvSpPr>
        <p:spPr>
          <a:xfrm>
            <a:off x="4680" y="838080"/>
            <a:ext cx="9091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4113360" y="1887480"/>
            <a:ext cx="1039680" cy="1049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9"/>
          <p:cNvSpPr/>
          <p:nvPr/>
        </p:nvSpPr>
        <p:spPr>
          <a:xfrm>
            <a:off x="4627440" y="2062080"/>
            <a:ext cx="582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MO-RA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8"/>
          <p:cNvSpPr/>
          <p:nvPr/>
        </p:nvSpPr>
        <p:spPr>
          <a:xfrm>
            <a:off x="4132440" y="2081160"/>
            <a:ext cx="46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M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976320" y="1430280"/>
            <a:ext cx="4738680" cy="46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 Ministers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6"/>
          <p:cNvSpPr/>
          <p:nvPr/>
        </p:nvSpPr>
        <p:spPr>
          <a:xfrm>
            <a:off x="33480" y="5734080"/>
            <a:ext cx="1962000" cy="1049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Linkages K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(MoUs: e.g., data flow, technical support, focal points, financial support, etc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5"/>
          <p:cNvSpPr/>
          <p:nvPr/>
        </p:nvSpPr>
        <p:spPr>
          <a:xfrm>
            <a:off x="7337520" y="1506600"/>
            <a:ext cx="1654200" cy="68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dmin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S, Reg. Secretariat, Disaster Comt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. Author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DED, District Council, Disaster Committe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4"/>
          <p:cNvSpPr/>
          <p:nvPr/>
        </p:nvSpPr>
        <p:spPr>
          <a:xfrm>
            <a:off x="7278840" y="2416320"/>
            <a:ext cx="1749240" cy="2079360"/>
          </a:xfrm>
          <a:prstGeom prst="rect">
            <a:avLst/>
          </a:pr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ct Food Security and Nutrition Teams (MUCH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of F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and Nutr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ecretari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haired by DPO, DALDO secrtry;  with relevant ministries, NGOs, and civil socie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, Intervention Analysis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3"/>
          <p:cNvSpPr/>
          <p:nvPr/>
        </p:nvSpPr>
        <p:spPr>
          <a:xfrm>
            <a:off x="2568600" y="3276720"/>
            <a:ext cx="1165320" cy="349200"/>
          </a:xfrm>
          <a:prstGeom prst="rect">
            <a:avLst/>
          </a:prstGeom>
          <a:solidFill>
            <a:srgbClr val="ffcc99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 Food and Nutrition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2"/>
          <p:cNvSpPr/>
          <p:nvPr/>
        </p:nvSpPr>
        <p:spPr>
          <a:xfrm>
            <a:off x="5207040" y="2043000"/>
            <a:ext cx="1917720" cy="8938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Agriculture, Food Security, and Cooperati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g. Sector Lead Ministri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1"/>
          <p:cNvSpPr/>
          <p:nvPr/>
        </p:nvSpPr>
        <p:spPr>
          <a:xfrm>
            <a:off x="2568600" y="4888080"/>
            <a:ext cx="116532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Sokoine, UDSM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0"/>
          <p:cNvSpPr/>
          <p:nvPr/>
        </p:nvSpPr>
        <p:spPr>
          <a:xfrm flipH="1" flipV="1">
            <a:off x="8163000" y="217800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9"/>
          <p:cNvSpPr/>
          <p:nvPr/>
        </p:nvSpPr>
        <p:spPr>
          <a:xfrm>
            <a:off x="1325520" y="2120760"/>
            <a:ext cx="612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Water and Irrig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3443400" y="2120760"/>
            <a:ext cx="62064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Health and Social Welf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7"/>
          <p:cNvSpPr/>
          <p:nvPr/>
        </p:nvSpPr>
        <p:spPr>
          <a:xfrm>
            <a:off x="270504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Industry Trade and Mark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197640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Livestock Develop. and Fishe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2568600" y="371304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Bureau of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4"/>
          <p:cNvSpPr/>
          <p:nvPr/>
        </p:nvSpPr>
        <p:spPr>
          <a:xfrm flipV="1">
            <a:off x="160668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3"/>
          <p:cNvSpPr/>
          <p:nvPr/>
        </p:nvSpPr>
        <p:spPr>
          <a:xfrm flipV="1">
            <a:off x="230652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 flipV="1">
            <a:off x="305424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1"/>
          <p:cNvSpPr/>
          <p:nvPr/>
        </p:nvSpPr>
        <p:spPr>
          <a:xfrm flipV="1">
            <a:off x="374328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0"/>
          <p:cNvSpPr/>
          <p:nvPr/>
        </p:nvSpPr>
        <p:spPr>
          <a:xfrm>
            <a:off x="704880" y="16351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 flipV="1">
            <a:off x="353880" y="3150720"/>
            <a:ext cx="3846600" cy="1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8"/>
          <p:cNvSpPr/>
          <p:nvPr/>
        </p:nvSpPr>
        <p:spPr>
          <a:xfrm>
            <a:off x="3733920" y="343224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3733920" y="3878280"/>
            <a:ext cx="4665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>
            <a:off x="6638760" y="526716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6978600" y="5052960"/>
            <a:ext cx="10684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Food Reserve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7240680" y="6083280"/>
            <a:ext cx="15048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N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7230960" y="5656320"/>
            <a:ext cx="1514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Partners--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 Working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2568600" y="4189320"/>
            <a:ext cx="11653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eteorological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>
            <a:off x="6648480" y="58402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6667560" y="62388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936720" y="603252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936720" y="628164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2287440" y="29368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9096480" y="126540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5"/>
          <p:cNvSpPr/>
          <p:nvPr/>
        </p:nvSpPr>
        <p:spPr>
          <a:xfrm>
            <a:off x="8978760" y="118728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568600" y="543240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 flipV="1">
            <a:off x="109224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2"/>
          <p:cNvSpPr/>
          <p:nvPr/>
        </p:nvSpPr>
        <p:spPr>
          <a:xfrm>
            <a:off x="3733920" y="5064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1"/>
          <p:cNvSpPr/>
          <p:nvPr/>
        </p:nvSpPr>
        <p:spPr>
          <a:xfrm flipH="1">
            <a:off x="6648480" y="55674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305424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>
            <a:off x="1577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936720" y="293688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 flipV="1">
            <a:off x="3627360" y="29368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724200" y="442260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724200" y="558792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7240680" y="6453360"/>
            <a:ext cx="1504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ivil Societies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NG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6657840" y="6626160"/>
            <a:ext cx="5828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7454880" y="4651200"/>
            <a:ext cx="13780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rd and Village Offici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8153280" y="4419720"/>
            <a:ext cx="1116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5540400" y="1149480"/>
            <a:ext cx="1865160" cy="582480"/>
            <a:chOff x="5540400" y="1149480"/>
            <a:chExt cx="1865160" cy="582480"/>
          </a:xfrm>
        </p:grpSpPr>
        <p:sp>
          <p:nvSpPr>
            <p:cNvPr id="109" name="AutoShape 30"/>
            <p:cNvSpPr/>
            <p:nvPr/>
          </p:nvSpPr>
          <p:spPr>
            <a:xfrm>
              <a:off x="5540400" y="1149480"/>
              <a:ext cx="1865160" cy="5824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5948280" y="1246320"/>
              <a:ext cx="116568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licy Implemen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evelopment Progra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ergency Respo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27"/>
          <p:cNvSpPr/>
          <p:nvPr/>
        </p:nvSpPr>
        <p:spPr>
          <a:xfrm>
            <a:off x="7113600" y="2158920"/>
            <a:ext cx="233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695920" y="17319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V="1">
            <a:off x="6997680" y="2955600"/>
            <a:ext cx="0" cy="20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6589800" y="270360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524988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599000" y="21114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113360" y="1838160"/>
            <a:ext cx="1030320" cy="165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97440" y="1692360"/>
            <a:ext cx="814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TANDRE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4782960" y="1722600"/>
            <a:ext cx="932040" cy="349200"/>
          </a:xfrm>
          <a:custGeom>
            <a:avLst/>
            <a:gdLst>
              <a:gd name="textAreaLeft" fmla="*/ 0 w 932040"/>
              <a:gd name="textAreaRight" fmla="*/ 932400 w 93204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1980" h="900">
                <a:moveTo>
                  <a:pt x="0" y="900"/>
                </a:moveTo>
                <a:cubicBezTo>
                  <a:pt x="15" y="615"/>
                  <a:pt x="30" y="330"/>
                  <a:pt x="360" y="180"/>
                </a:cubicBezTo>
                <a:cubicBezTo>
                  <a:pt x="690" y="30"/>
                  <a:pt x="1710" y="30"/>
                  <a:pt x="19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570640" y="17319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4316400" y="188748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418140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664848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210200" y="25383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648480" y="298440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65280" y="2120760"/>
            <a:ext cx="610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Fin. and Econ.P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KUKU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9080" y="2120760"/>
            <a:ext cx="5968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Com. Dev. Gender and Childr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519120" y="1887480"/>
            <a:ext cx="46656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53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4200480" y="6811560"/>
            <a:ext cx="24573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192560" y="2554200"/>
            <a:ext cx="2448000" cy="4238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MUCHALI Secretari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ation of FSIT/MSTT (management, sustainability, GoT decision mak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idation of reporting and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velihood-based Food Security &amp;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untability for evidence-based deci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urpose/Objec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actionable knowledge to decision makers for food security policy, development activities, and 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decentralization of food security and nutrition analysis to Local Gov’t Author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uation Analysis, Intervention Analysis, Decentralization Support, Applied Research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ly located in MAFC but with distinct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Coordinator (from MAFC), Institutional Coordinator (from PMO), FS Analysts (2), Nutrition Analyst (from TFNC), Disaster Risk Management Analyst (from PMO) Trainers (2), Information Manager, Communications Officer, admin 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conded Technical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MD, TFNC, FEWSNET, WFP, FAO, UNICEF, SCF, OXFAM, Rotating District Analysts, Other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vernment (Direct fund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ket 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191120" y="297504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8"/>
          <p:cNvSpPr/>
          <p:nvPr/>
        </p:nvSpPr>
        <p:spPr>
          <a:xfrm>
            <a:off x="4981680" y="304920"/>
            <a:ext cx="3705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7"/>
          <p:cNvSpPr/>
          <p:nvPr/>
        </p:nvSpPr>
        <p:spPr>
          <a:xfrm flipV="1">
            <a:off x="6500880" y="752040"/>
            <a:ext cx="144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3"/>
          <p:cNvSpPr/>
          <p:nvPr/>
        </p:nvSpPr>
        <p:spPr>
          <a:xfrm>
            <a:off x="38160" y="1401840"/>
            <a:ext cx="79992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V.P.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2"/>
          <p:cNvSpPr/>
          <p:nvPr/>
        </p:nvSpPr>
        <p:spPr>
          <a:xfrm>
            <a:off x="7924680" y="809640"/>
            <a:ext cx="11574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ers, Trade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4"/>
          <p:cNvGrpSpPr/>
          <p:nvPr/>
        </p:nvGrpSpPr>
        <p:grpSpPr>
          <a:xfrm>
            <a:off x="6576840" y="695160"/>
            <a:ext cx="1352880" cy="609840"/>
            <a:chOff x="6576840" y="695160"/>
            <a:chExt cx="1352880" cy="609840"/>
          </a:xfrm>
        </p:grpSpPr>
        <p:sp>
          <p:nvSpPr>
            <p:cNvPr id="138" name="AutoShape 86"/>
            <p:cNvSpPr/>
            <p:nvPr/>
          </p:nvSpPr>
          <p:spPr>
            <a:xfrm rot="16200000">
              <a:off x="6910200" y="361800"/>
              <a:ext cx="609840" cy="1276560"/>
            </a:xfrm>
            <a:prstGeom prst="upArrow">
              <a:avLst>
                <a:gd name="adj1" fmla="val 50000"/>
                <a:gd name="adj2" fmla="val 5233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5"/>
            <p:cNvSpPr/>
            <p:nvPr/>
          </p:nvSpPr>
          <p:spPr>
            <a:xfrm>
              <a:off x="6807960" y="771120"/>
              <a:ext cx="112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creased prod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e market exchan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rchasing Pow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90"/>
          <p:cNvSpPr/>
          <p:nvPr/>
        </p:nvSpPr>
        <p:spPr>
          <a:xfrm>
            <a:off x="9360" y="-2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3"/>
          <p:cNvSpPr/>
          <p:nvPr/>
        </p:nvSpPr>
        <p:spPr>
          <a:xfrm>
            <a:off x="11160" y="-1162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4"/>
          <p:cNvSpPr/>
          <p:nvPr/>
        </p:nvSpPr>
        <p:spPr>
          <a:xfrm>
            <a:off x="11160" y="524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5"/>
          <p:cNvSpPr/>
          <p:nvPr/>
        </p:nvSpPr>
        <p:spPr>
          <a:xfrm>
            <a:off x="9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4"/>
          <p:cNvSpPr/>
          <p:nvPr/>
        </p:nvSpPr>
        <p:spPr>
          <a:xfrm>
            <a:off x="9360" y="71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5"/>
          <p:cNvSpPr/>
          <p:nvPr/>
        </p:nvSpPr>
        <p:spPr>
          <a:xfrm>
            <a:off x="762120" y="457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Institu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6:21Z</dcterms:modified>
  <cp:revision>87</cp:revision>
  <dc:subject/>
  <dc:title>Slide 1</dc:title>
</cp:coreProperties>
</file>